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7052-3446-4FFF-9067-129AB5AE869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ree simple words: Know your aud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ow old are they? Where do they live? Male or female? What interests them? What worries them?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90B2-2584-4A29-8567-E382492B5F0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down all the facts of your communication. For example, if you’re holding an event, write down facts anything that would entice someone to come and would help them make the arrangements to come, such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ame of an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ate and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cket prices and where proceeds go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y you’re doing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s interesting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s it different? Is it unique (which is more than just different; it means the only one of its ki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s it better than similar offerings elsewhere? Is it cheap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re you aiming to make those who come feel happy or smart or good about themselves or holy or uplifted or gui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073A-F101-4425-ADE9-059C646A895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down your targe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is the most important thing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You may want to write down “everyone”, but this is highly unlikely to be true. Be honest about who your event is likely to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f there’s more than target, list them in priority.</a:t>
            </a: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3863-25F2-473E-9A3C-C75A2BAAF3A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ft through the facts you wrote down earlier to find those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Your target group needs to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Your target group wants to know. </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3CC2-61F3-40DF-97F3-A2EB3356317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ere is your target audience most likely to find out about an 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re they newspaper read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re they radio liste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o they hang out some place or pass by a place where there are pos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s there a website that caters to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s there a Facebook page where they’re in contact with p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o they have a club or association? Does it have a newsletter – online or print?</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70133-32D2-4D0B-9BB2-969E8CC3B63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w craft the most interesting facts to suit the medium/media you have cho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f it’s radio, write something that will catch the ear’s att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f it’s an advertisement in print, use a great picture and strong fonts. This includes posters. And make sure they look as attractive in black and white as they do in col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f it’s Facebook, write like a conversation, not a formal announc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f it’s Twitter, it has to be 140 characters – short and sweet.</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B4B4-894C-4CF5-9260-32EBE1BB515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beat yourself up if you don’t get the response you expected. Regroup and think about what you might have done differently.</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EE13-7AA7-4A47-B5F6-F1E1C6C2B90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7CD67-59D4-4AE0-BE70-FD1E56361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7CC5C-DDC3-4F01-8413-96013115E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1EDF3-5262-4E91-BE07-CC801B457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8A8C1-3BCD-4C16-B3B6-471A12215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82CCE-795D-430D-96A4-6F47B9538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6AD62-FE8D-4E0E-9F63-68DBFBA15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052A3-649B-4341-861B-0A17D03D7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E9F71-8CDE-4877-A631-5415A513B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7E72C-3AF0-4CA6-B5C0-FB9E76753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17377-C518-472C-B5F6-252D6A8E9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6505F-5BA4-465B-9823-C3CDF3997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69AFF-794A-48E9-93E1-E1DBA51EC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FBE5-11A3-4141-9C72-4CC9B825FA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3141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a:solidFill>
                  <a:srgbClr val="ff3300"/>
                </a:solidFill>
                <a:latin typeface="Arial"/>
              </a:rPr>
              <a:t>Know your audience.</a:t>
            </a:r>
            <a:endParaRPr b="0" lang="en-US" sz="5400" spc="-1" strike="noStrike">
              <a:solidFill>
                <a:srgbClr val="000000"/>
              </a:solidFill>
              <a:latin typeface="Arial"/>
            </a:endParaRPr>
          </a:p>
        </p:txBody>
      </p:sp>
      <p:sp>
        <p:nvSpPr>
          <p:cNvPr id="49" name="PlaceHolder 2"/>
          <p:cNvSpPr>
            <a:spLocks noGrp="1"/>
          </p:cNvSpPr>
          <p:nvPr>
            <p:ph type="subTitle"/>
          </p:nvPr>
        </p:nvSpPr>
        <p:spPr>
          <a:xfrm>
            <a:off x="1258920" y="1844280"/>
            <a:ext cx="6400800" cy="1079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ree simple w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rite down the fac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raight info such as name, date, place,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pinion: Why are you doing it? Why would it interest others?</a:t>
            </a:r>
            <a:endParaRPr b="0" lang="en-US" sz="2800" spc="-1" strike="noStrike">
              <a:solidFill>
                <a:srgbClr val="000000"/>
              </a:solidFill>
              <a:latin typeface="Arial"/>
            </a:endParaRPr>
          </a:p>
        </p:txBody>
      </p:sp>
      <p:pic>
        <p:nvPicPr>
          <p:cNvPr id="52" name="Picture 7" descr="dragnet"/>
          <p:cNvPicPr/>
          <p:nvPr/>
        </p:nvPicPr>
        <p:blipFill>
          <a:blip r:embed="rId1"/>
          <a:stretch/>
        </p:blipFill>
        <p:spPr>
          <a:xfrm>
            <a:off x="4762440" y="234936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Target Audience</a:t>
            </a:r>
            <a:endParaRPr b="0" lang="en-US" sz="4400" spc="-1" strike="noStrike">
              <a:solidFill>
                <a:srgbClr val="000000"/>
              </a:solidFill>
              <a:latin typeface="Arial"/>
            </a:endParaRPr>
          </a:p>
        </p:txBody>
      </p:sp>
      <p:sp>
        <p:nvSpPr>
          <p:cNvPr id="54" name="PlaceHolder 2"/>
          <p:cNvSpPr>
            <a:spLocks noGrp="1"/>
          </p:cNvSpPr>
          <p:nvPr>
            <p:ph/>
          </p:nvPr>
        </p:nvSpPr>
        <p:spPr>
          <a:xfrm>
            <a:off x="684000" y="1599840"/>
            <a:ext cx="8002440" cy="442116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This is the most important thing to do</a:t>
            </a:r>
            <a:r>
              <a:rPr b="0" lang="en-CA"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 is your event likely to at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there’s more than target, list them in prior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6" descr="MC900335661[1]"/>
          <p:cNvPicPr/>
          <p:nvPr/>
        </p:nvPicPr>
        <p:blipFill>
          <a:blip r:embed="rId1"/>
          <a:stretch/>
        </p:blipFill>
        <p:spPr>
          <a:xfrm>
            <a:off x="2843280" y="3808440"/>
            <a:ext cx="3610080" cy="22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ifting</a:t>
            </a:r>
            <a:endParaRPr b="0" lang="en-US" sz="4400" spc="-1" strike="noStrike">
              <a:solidFill>
                <a:srgbClr val="000000"/>
              </a:solidFill>
              <a:latin typeface="Arial"/>
            </a:endParaRPr>
          </a:p>
        </p:txBody>
      </p:sp>
      <p:sp>
        <p:nvSpPr>
          <p:cNvPr id="57" name="PlaceHolder 2"/>
          <p:cNvSpPr>
            <a:spLocks noGrp="1"/>
          </p:cNvSpPr>
          <p:nvPr>
            <p:ph/>
          </p:nvPr>
        </p:nvSpPr>
        <p:spPr>
          <a:xfrm>
            <a:off x="457200" y="3357720"/>
            <a:ext cx="8229600" cy="2768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ft through the facts you wrote down earlier to find those th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Your target group needs to k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Your target group wants to know.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4" descr="MC900214933[1]"/>
          <p:cNvPicPr/>
          <p:nvPr/>
        </p:nvPicPr>
        <p:blipFill>
          <a:blip r:embed="rId1"/>
          <a:stretch/>
        </p:blipFill>
        <p:spPr>
          <a:xfrm>
            <a:off x="3564000" y="1341360"/>
            <a:ext cx="2448000" cy="202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ere are the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ewspaper read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adio listen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o they hang out some place or pass by a place where there are post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bsite for th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acebook page for th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lub or association?</a:t>
            </a:r>
            <a:endParaRPr b="0" lang="en-US" sz="3200" spc="-1" strike="noStrike">
              <a:solidFill>
                <a:srgbClr val="000000"/>
              </a:solidFill>
              <a:latin typeface="Arial"/>
            </a:endParaRPr>
          </a:p>
        </p:txBody>
      </p:sp>
      <p:pic>
        <p:nvPicPr>
          <p:cNvPr id="61" name="Picture 8" descr="MC900434787[1]"/>
          <p:cNvPicPr/>
          <p:nvPr/>
        </p:nvPicPr>
        <p:blipFill>
          <a:blip r:embed="rId1"/>
          <a:stretch/>
        </p:blipFill>
        <p:spPr>
          <a:xfrm>
            <a:off x="6084720" y="3645000"/>
            <a:ext cx="2448000" cy="24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essage Suits the Medium</a:t>
            </a:r>
            <a:endParaRPr b="0" lang="en-US" sz="4400" spc="-1" strike="noStrike">
              <a:solidFill>
                <a:srgbClr val="000000"/>
              </a:solidFill>
              <a:latin typeface="Arial"/>
            </a:endParaRPr>
          </a:p>
        </p:txBody>
      </p:sp>
      <p:sp>
        <p:nvSpPr>
          <p:cNvPr id="63" name="PlaceHolder 2"/>
          <p:cNvSpPr>
            <a:spLocks noGrp="1"/>
          </p:cNvSpPr>
          <p:nvPr>
            <p:ph/>
          </p:nvPr>
        </p:nvSpPr>
        <p:spPr>
          <a:xfrm>
            <a:off x="4648320" y="1484280"/>
            <a:ext cx="4038480" cy="4641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 it’s radio, catch the 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 it’s print or poster, pictures and strong fo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 it’s Facebook, write like a convers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 it’s Twitter, short and punch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Picture 6" descr="MC900060225[1]"/>
          <p:cNvPicPr/>
          <p:nvPr/>
        </p:nvPicPr>
        <p:blipFill>
          <a:blip r:embed="rId1"/>
          <a:stretch/>
        </p:blipFill>
        <p:spPr>
          <a:xfrm>
            <a:off x="982800" y="1773360"/>
            <a:ext cx="3190680" cy="446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No perfect way</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re’s no hypodermic needle that you can use to just “insert” information into peop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ltimately, they see what they want </a:t>
            </a:r>
            <a:br>
              <a:rPr sz="2800"/>
            </a:br>
            <a:r>
              <a:rPr b="0" lang="en-CA" sz="2800" spc="-1" strike="noStrike">
                <a:solidFill>
                  <a:srgbClr val="000000"/>
                </a:solidFill>
                <a:latin typeface="Arial"/>
              </a:rPr>
              <a:t>when they want.</a:t>
            </a:r>
            <a:endParaRPr b="0" lang="en-US" sz="2800" spc="-1" strike="noStrike">
              <a:solidFill>
                <a:srgbClr val="000000"/>
              </a:solidFill>
              <a:latin typeface="Arial"/>
            </a:endParaRPr>
          </a:p>
        </p:txBody>
      </p:sp>
      <p:pic>
        <p:nvPicPr>
          <p:cNvPr id="67" name="Picture 13" descr="MC900293392[1]"/>
          <p:cNvPicPr/>
          <p:nvPr/>
        </p:nvPicPr>
        <p:blipFill>
          <a:blip r:embed="rId1"/>
          <a:stretch/>
        </p:blipFill>
        <p:spPr>
          <a:xfrm>
            <a:off x="5076720" y="1989000"/>
            <a:ext cx="2832120" cy="36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2T21:04:14Z</dcterms:created>
  <dc:creator>Sandra Coulson</dc:creator>
  <dc:description/>
  <dc:language>en-US</dc:language>
  <cp:lastModifiedBy>Yvon Prehn</cp:lastModifiedBy>
  <cp:lastPrinted>2011-12-01T17:54:31Z</cp:lastPrinted>
  <dcterms:modified xsi:type="dcterms:W3CDTF">2011-12-01T18:26:12Z</dcterms:modified>
  <cp:revision>10</cp:revision>
  <dc:subject/>
  <dc:title>Know your audience.</dc:title>
</cp:coreProperties>
</file>